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4441-673F-4773-8B38-1CD5A542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9F11-8DF2-45E3-8933-E3D42991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upload.wikimedia.org/wikipedia/commons/1/12/Singapore_Botanic_Gardens_Cactus_Garden_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CF3-3EC1-48DE-8B8E-1D58FBD0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4C5-5D28-4DC3-9BA3-886345EF8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722B-C388-44AD-9BE5-E7B03761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EFE-363D-41A7-833B-CCE9D56E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41A-855D-46F3-9F0B-C2B77DB5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906C-8E80-453F-AF29-BDEF18AA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AC72-7396-4667-A050-43764E15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17A-FD12-4C9C-B465-C764A530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4F1-A8D1-43E4-86F7-9BD88647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4C7-D844-4A8B-91DB-40A8AD08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859-EA1A-485E-A5E8-DF662CDC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CEC-48F2-4417-BE1C-58E64F7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E38-F67F-4765-9043-C662108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9C6-0EB4-45D9-BB13-7714B94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977-4189-4FBB-BA1F-0C8B6A4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DC4-042A-4006-8B48-E1756A7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C19-AE9D-4FB8-8BD0-A9EF667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04D-292D-4F0F-B451-524188E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62A-1FEE-4EB7-BA8E-D1F1A61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C61-DB98-4B0E-A88F-87B195C7B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58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c10x17calvin-cycle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step-by-step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Ryerson self-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10x17calvin-cycle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Thylakoid_membrane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x-t0sGyjf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7-06-09T14:05:04Z</dcterms:modified>
  <cp:revision>36</cp:revision>
  <dc:subject/>
  <dc:title>PowerPoint Presentation</dc:title>
</cp:coreProperties>
</file>